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02D-19A3-4FF1-B7CA-1904DE36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2B95-0A13-4EAE-AA36-55B8986D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5AD9D-F943-4627-BAB9-D9DF44BD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E74FC-9315-4BC5-83BE-65D1BB02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8BE88-BE90-4E50-981E-335131E0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321DA-7120-4018-9AB0-8A9D1759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5C671-FAA0-47CC-8BA1-CE5A8402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AF63F-1FAD-4AE8-8A00-81832288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F198A-3130-4AB6-976E-1721A01B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18302-AE3A-44E1-A5B6-C6AEB32E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86F53-A1AB-4CEA-AF23-BF3CE87A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AF53D-480C-47FA-B619-FD144F0F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BCF3-B679-4A91-BE9B-70821D99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114E8-5F0F-416B-AB8A-D45F4141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AF055-8724-4363-A5C6-F2564411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0C5A8-6704-4FA0-90A3-B73D9D79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475E8-B392-4F47-9EBD-ADC149B7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3FB37-7A65-444C-BE11-71622C92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8CF01-1E60-464B-9F7D-442688EC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7C734-7E63-4E90-A0CE-519AAEFD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C5E99-BE5D-4DB6-86CE-C854FC65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98DD4-09DD-44FF-9221-5D35E881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4741D-D22D-4BD3-BB4C-9457F682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358-605C-4008-B4C3-E2177B96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86C20-5EC1-42B3-8E53-785AB7DD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D35F4-93BA-47F2-8AF6-FE615517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0F417-004E-4C60-93BB-57568FB6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9BFA4-6FDC-4A15-A4A1-EBF82B48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1D698-8EB4-448C-9518-8645C617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87951-BA0D-4BC9-899E-4EDA39D1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C7E7D-0B67-4972-ACF3-8CB276C8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F7BF6-07F8-4207-941B-08901B58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4A111-FF32-49CF-9D8C-8029D65F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7773F-762D-40A3-9232-E4DA45E4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8AEA-F8FA-43A0-A3EE-DA0A1ECB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33745-D2EB-47D7-AD57-8E79AC71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37BF7-C902-4439-9BD8-3C672CF8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F482A-D1EE-4338-9529-B6B01D86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009B4-7B11-4DBE-A91B-12C23725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39BDB-2447-4787-9AE0-A25019ED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6DADB-E8FA-4F61-B015-4879EBA2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7320B-3692-4612-96BC-3B52F26F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2727A-DD92-4001-89A2-739E1BD6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17790-616D-43FE-AC07-46428058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6CBC3-ED9D-4813-8D55-60026F57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2B81-6DEA-4F01-A8FD-1AA20CF9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AA083-09B9-49D6-8EB3-4D43D0F3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74BF1-3F4E-4775-A595-8B71A694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D47C0-97D7-46B6-91DC-F07D007A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B964B-8953-436A-AE4A-808197B5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7AE55-659C-4C58-88B5-06FD811F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62A33-A042-4688-919F-C4AA6023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F103C-85EF-4485-8FE4-375FC7AB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F10739-324F-4E06-8B6D-183C8A09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57799-F896-49C0-A1C8-A6C9F2D9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F59D0-FFA8-4523-A128-1D1C5027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163A-100A-4A13-8402-739E7B8E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9B6AD-74AC-4A5B-A5C1-70E2D630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CE0D67-4908-4106-B33E-AB4E02FC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A6ACB-4D99-4FF4-B7CF-47E7308D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34203-F548-414C-B22D-21EC06DF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BC8B7-8917-4D3D-A144-65D10339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0CDAF-8317-41AA-AF5F-375E648C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67C0E-3AC2-4C55-9852-6624F0FE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D7797-0A7B-4E39-B6AA-138FB68A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0ECD6-E8F6-450F-B8D3-52E76DA0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9B0A3-918D-4A98-83E5-077B7B82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948D-869E-427D-AAFE-F2FAD5B3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B65EF-6A2E-4DB2-86AC-26B531D5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2EBEBD-0C3A-4943-AC78-9B9D77E6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73490-E586-4217-AD26-084D193D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B7FB9-2408-4B86-94AE-827A4CA3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D47CA-67A0-45CD-A9B0-8235CCBE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9A281-7B09-44A4-80AB-E1529665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0A84F-C17E-4F05-8B0A-B3E1F6E3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E4E8C1-902F-476F-AD81-1CC18353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2B5D61-7EB3-4351-9053-24C90EE2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CB5E14-3280-415C-A036-3EA11079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E84C-DE9D-4B28-BEC0-E35BF5A5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CF2E0-B735-4613-8203-8C3EFDA7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C1CA2-118F-4F9B-AC28-2B837049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9557A7-E792-4883-B00D-0C4798B9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1989A7-4E06-49AD-A433-87AA10C2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330340-B68F-446B-BC14-C1F0E06A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72A406-3221-4125-AA34-F3F9D67B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4C9921-C6C8-442E-8FE3-12BD94C3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7EB06-F705-4A32-B10A-D0A3A501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F1FE73-3595-4C19-8B2E-C7680C77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22951F-1D8E-4A76-946A-6018CE12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404B-2995-4A84-BCA4-2558A29C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2237EA-BCD3-4A5F-A044-D5803E41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3F2F7F-273F-4616-9DB8-8CE81F9F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A574C6-C055-4BD7-8B64-1873364E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F5106-0B40-4535-9BE9-1484D6C3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EEDE9C-3ECE-4531-A8C3-7556B8C9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356A5B-0739-458F-BDAD-00074409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F1BA9D-F407-4F26-B39F-9A52B498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E82BB5-6421-4BEA-BB00-6CCF042E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64F9E3-7406-4C3D-99BB-66A183F6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54EF99-17FD-4895-9AF3-64020B44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A4AD-964A-4D6D-93A6-F5882FC4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AB1FAC-4D6C-4C8D-917D-E67C48A8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B8DA23-1A4E-4762-813D-4EFF2D9D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DF034A-1AE8-46B4-BA3C-3BF98DF6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9D5EF0-1BD2-4F8E-B029-FBEA7F7D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4FB469-D4DA-4A7C-BDD2-C956BBDE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007993-CAA8-45DA-8607-35A760FD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0063C-4F5B-4B36-8C05-368197B5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412AB0-84AA-4FCF-8A90-8F1F55BA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E8CE6A-5B6F-4704-9343-D65B9233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BEF116-A215-4500-9A17-3FC8C936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AF1-66F2-4951-A37A-D126ED9C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E6C3-58AE-4B9C-82A9-8C3468F5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055270-4337-49B5-BB3F-A02D70A2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48AC8-D73C-4A7E-8226-D4E6C281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10F9B-2A5B-4E08-9E91-84BF7046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546F76-8E03-4686-9631-EE7675FA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0355DF-37C2-42D5-BC1D-09F3D9A5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EBBFF1-BB19-418E-8F9C-1E5B011D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92DDC-91E9-4DA7-A0B2-FF808707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37DBAE-2EE5-4D03-8015-F9340A93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724AD6-63A5-41B9-8FD4-8984DF5C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9B802-5819-4286-8B16-557468B6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628B-D1FE-467A-8EB9-EA74B76A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D6EE47-68EE-4EF8-8409-18CF9E03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8CF52-D979-4823-A00C-0BF49119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1B5759-B206-4AA5-8859-29B3E4F6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BAC6BC-BC19-48EF-B586-A205165C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BB04A7-025D-40F3-877C-B7F95EFC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7327CF-9238-4890-A747-E2580D96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6DA6E7-320E-44FF-BF2D-3DA05F3C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C39413-367D-4997-A178-A076F21E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9E7213-97A2-4CA8-B5E3-28934C32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1D6C21-2056-4BDD-849C-6D52292E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0C91-28B1-40F1-8E32-44E5DB9D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B65E6B-9DB5-44EC-8E30-7FBD7CD3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203FF7-B739-473D-A8B7-6E8C17DD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DC923-A099-42B1-93E8-E9CBBEFF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58F566-DE71-4F3A-81C7-A95B39F1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0CCD5F-DE4C-4023-B40F-81DECE4B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F4215F-3732-4D5B-9F31-6C073A83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BCB01E-B9B8-44B9-AE3E-BB1D0F27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B75C24-06F9-4935-BB79-21F40095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6E1D27-9AD9-4298-A00D-44094850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96D07D-751C-4CCF-BD86-67FA6260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E15B-7177-4482-857E-2525F6AC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7854BB-D4D6-42AE-85E0-6F66AFD4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773BE2-5535-496D-A32F-52B90FD2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948A95-295E-4640-8968-CCA14B80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55773E-1ACF-4144-B1D8-5744292F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C8D9B5-39DD-4EB1-A04C-2CDD312E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875FEF-2F5F-4E68-89E4-EC6B7AAA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16F250-2446-491F-9042-A697F272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07F871-2384-4983-B53B-C7A5A38D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72971A-40EB-48D3-8857-A08252B8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15FADC-6557-40C8-AAA7-7BE7182B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2803-5418-405D-845B-9656AE6E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9CFB77-5101-4EDF-99E4-20CC985B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612946-3C92-45F7-96B3-9423AFE4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8B6E6C-24E3-4EA3-AAA7-601B5C8D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088383-ED41-421B-9E91-074EC1C1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493BCA-204E-4DBF-B743-3F069883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E336BF-6D77-4975-BE7E-FAF0DBF0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B58853-B63D-4F53-8C24-5BAD1E6F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B16E02-178B-420C-A3CF-FE6EA31A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C6B7F7-E677-46B2-829F-72268517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350ED3-4710-4892-8D31-58474D1B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F13AB-933A-4DE7-8B49-93922C05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6E682F-4DAE-4EAD-AF7D-CF636360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0CEF74-6FD2-40FF-8DF6-08A28861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2DD041-FD9C-46E9-90B8-EE42889E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421E3-F697-44A4-BE93-3C152A76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0D5D0-2ED1-4AFB-B132-0810CED8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39D82-8633-49A1-8234-5D6B8B44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B7AD9-FC60-4377-975D-50492ED4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4C8-52F4-4B26-9ABF-C1C985B3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678AC-5C43-4866-B233-E6B15E2F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42685-96BF-4D0C-9766-1D3CAAF6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B3438-83CD-4D11-8FA3-5BB033D4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E84F6-4079-437B-A1C1-CD0F309A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6BA4-7485-4D7B-BA90-C15A626B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56600-917A-4FA6-9AA1-BC0CBB39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98641-A773-46E0-9D95-C89D1884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F63C-0FAB-4AC7-ADD5-6F30B70B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18B32-4542-4FDA-84B7-D8E1EADA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40BE0-D0C9-4AB5-958E-A1D32740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556-ECC4-4993-8E13-F19BECE2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35E70-5D83-4BEC-9DB6-EC72551E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0BC33-65F2-4E0D-833E-CF982C0A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D86C2-2EAB-45C1-9BB8-5BE9124F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634BB-D435-478A-907D-6EF8360C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7B91C-A636-4B8E-9DDD-B993D25E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9EB0A-63E0-49D2-A386-1834EA4E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E30C1-3AA4-41C1-BA7E-0040C2A0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5E5C3-16E5-4186-8E5A-1800B5C8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9FA5C-94AC-4EFD-923F-8EFD5AEF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CF6F9-2BD4-45AE-A44A-53F80AA0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633-B788-42AD-A1F1-69B6AAEE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F2F57-288E-4BBE-8351-07A6446E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859FC-DDB8-401C-9B6F-D396E563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E6D42-D9E2-4ED5-A6ED-D2E5B3DF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F0986-AE0B-4B18-A0AF-41E39AD0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CEA47-54DE-45E0-935B-23EA5575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D48B8-0D27-47F4-A083-42FA6883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9FD89-BD17-4F20-A54E-E938B2EC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A26D5-A8B8-4EBA-8B8D-4BE09B84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5200E-913C-41DE-9212-FDA93140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767C5-8C21-48E7-8812-3C19DC86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A2A-588E-494C-AA8B-BF2BBDF7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52748-40D6-4732-9DC3-7CE625EF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35FDB-E255-4777-8AA1-FCD17BCE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3F832-C9C0-4DAE-BD32-0DCA5248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D7631-3C16-4E0D-BA61-C9DAAA11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F5A9F-8D39-457D-A507-9158046F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9E4D4-7A84-4C53-B8BE-0845D990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2099E-917D-4764-BAC5-7957511D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442F9-6F08-4E32-9370-C1743FB8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4A3E6-47B1-43F5-A7D7-0605FF50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4EC9D-8CBC-4848-82B9-1811DE86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959-6D96-4601-B122-C7FA383F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8603D-B00C-4608-986C-E0002D57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D11BF-4C03-4780-AB66-61C7C0D3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FA0DB-F3A4-43E9-BC95-F603967C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13AE5-3E18-438E-ACB7-95A2B6AC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6D222-AEA5-4461-A4CD-CDE963E2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9FCEA-38AC-4767-8870-DDFF3562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AF45B-93EA-4A45-ADB5-8505D53B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37690-A0E9-4394-9210-E5561829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54C53-83C4-46E7-945D-7A74C86E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19798-4B15-4CFB-B69A-D97DAA6C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1E6-72FE-44D3-94EB-57A00A8A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35DDB-C2BF-4953-8B26-4B3E8BF3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4D336-FEA1-4AED-8DDF-F083D0DA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1D37F-2A79-4D22-9E37-362FD41A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325A0-3BB2-4F08-9628-0ED1B33F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FE14C-060F-4DFB-8872-E8AE22D3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A17BE-1E89-4763-ACAF-9A8371DB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E61BB-759D-43F3-BE3B-ADEE1E49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AE29D-0C53-4948-8916-FF9EC219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67842-6E7A-4E4E-B827-2267EABA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EFBBC-E43E-4D67-879F-20CB2274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93F-D10A-4268-BF94-37D68089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09914-C4C3-434E-9202-EFE66B4C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35BBA-4BB9-4003-929E-5D5DE9F9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ABF9F-9191-4329-A9D8-C6E6D85D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31D47-9F9C-409A-B9F4-20DF1B56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96BA3-F1C3-492B-81B1-B326D7D4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DCDEF-F8D3-4C81-B896-D9DCA2C9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E0464-C871-441D-9716-AFC469FB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E715A-1BC5-4546-BE24-0FCB4308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BFD8E-4D75-4732-98DC-51C6D07F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25DA1-D2DA-4E1B-81D1-5F9F2B64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F491-318F-41FB-ACB9-6D90F780D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8980-DD54-437A-8598-376F42A576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418E-3598-44AD-9AB2-E97EAFE5C4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9BDB-B166-4A5D-80C0-DE45E28734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95C7-5290-450B-A01D-FA67431CC6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9E53-BF50-4E83-B576-D8E4746FA1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ABCC-0EB6-465C-8755-9FAB5AF334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5DAD-9C01-4947-85CB-667414598E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0163-0F0F-4EF4-9FEE-4F47D5295B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0C29-40B9-4EE0-BE4D-B09325D1E7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2AFE-8030-4DE2-A449-198F6089D8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CB41-E744-4D48-8A6B-DBF0858C85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DDA6-6D58-424F-BE05-5DCF9732A3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3224-F007-4E59-9540-1C6BE71CA3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C92F-0ABC-406A-9284-AF212F4597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811C-665B-4181-889E-E89EFAB452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A46D-D51C-44E9-8C96-8A47DDA3EA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E0CC-522E-425E-BB3A-2A80331A66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82CB-4092-4B6C-AD9D-976D0650F1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277C-6984-4297-B795-D35BE5176E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345A-00B0-4D27-8B6E-442124A968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5F04-3BEA-4F3A-BFB7-042B4FD2A6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40BD-78C9-4D78-B460-77F80ACC71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1013-2C07-44F8-A9C0-37EF148AB1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14E7-4DE4-42A3-B206-713DAB47BE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BF4C-945D-4BF8-9356-EB49294733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CCD7-9A80-48D1-BF8F-A5BF8C782B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C90D-BB5E-4E1A-9591-AE933F406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4BAC-F496-4D16-9768-FAFD0E0842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EC3F-D0A8-479C-B039-DC515CAA2C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6412-9A18-432F-82AB-7AE599E807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DDA2-E4C6-4D16-8302-C77559E68D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AB2A-74EB-4FBB-B544-BB7BDA2D99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3957-BCD0-4E97-BC0D-8B3ECA8551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4479-924F-40E0-967C-CF7E4662E0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B406-668B-4F75-9D57-1AAF9FEF39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779B-2759-4748-9ABE-32723A7DBD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0224-08C0-4CE9-B7A2-8A37816B5C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659D-6FED-4DC8-BE77-E23CCAD9CE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B96D-DD49-4E11-B2A6-BEA2E0F4F5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109520" y="3138480"/>
            <a:ext cx="69249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80960" y="1028880"/>
            <a:ext cx="8182080" cy="480060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857160" y="292896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857160" y="392904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523800" y="876240"/>
            <a:ext cx="8096400" cy="510552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928800" y="100008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857160" y="307188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495360" y="2448000"/>
            <a:ext cx="8153280" cy="1962000"/>
          </a:xfrm>
          <a:prstGeom prst="rect">
            <a:avLst/>
          </a:prstGeom>
          <a:ln w="0">
            <a:noFill/>
          </a:ln>
        </p:spPr>
      </p:pic>
      <p:sp>
        <p:nvSpPr>
          <p:cNvPr id="1030" name="矩形 2"/>
          <p:cNvSpPr/>
          <p:nvPr/>
        </p:nvSpPr>
        <p:spPr>
          <a:xfrm>
            <a:off x="857160" y="2500200"/>
            <a:ext cx="5716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5819760" cy="5335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" descr=""/>
          <p:cNvPicPr/>
          <p:nvPr/>
        </p:nvPicPr>
        <p:blipFill>
          <a:blip r:embed="rId2"/>
          <a:stretch/>
        </p:blipFill>
        <p:spPr>
          <a:xfrm>
            <a:off x="428760" y="1500120"/>
            <a:ext cx="8210520" cy="4552920"/>
          </a:xfrm>
          <a:prstGeom prst="rect">
            <a:avLst/>
          </a:prstGeom>
          <a:ln w="0">
            <a:noFill/>
          </a:ln>
        </p:spPr>
      </p:pic>
      <p:sp>
        <p:nvSpPr>
          <p:cNvPr id="1033" name="矩形 3"/>
          <p:cNvSpPr/>
          <p:nvPr/>
        </p:nvSpPr>
        <p:spPr>
          <a:xfrm>
            <a:off x="4000680" y="1500120"/>
            <a:ext cx="12855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1428840" y="3000240"/>
            <a:ext cx="100008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3103560" y="355752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6000840" y="4572000"/>
            <a:ext cx="1474560" cy="378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7"/>
          <p:cNvSpPr/>
          <p:nvPr/>
        </p:nvSpPr>
        <p:spPr>
          <a:xfrm>
            <a:off x="4572000" y="5572080"/>
            <a:ext cx="12142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457200" y="900000"/>
            <a:ext cx="8229600" cy="505800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5008680" y="1879560"/>
            <a:ext cx="9284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6929280" y="1928880"/>
            <a:ext cx="12859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3151080" y="3465360"/>
            <a:ext cx="10717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4786200" y="3429000"/>
            <a:ext cx="7858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5857920" y="342900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7"/>
          <p:cNvSpPr/>
          <p:nvPr/>
        </p:nvSpPr>
        <p:spPr>
          <a:xfrm>
            <a:off x="7429680" y="342900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"/>
          <p:cNvSpPr/>
          <p:nvPr/>
        </p:nvSpPr>
        <p:spPr>
          <a:xfrm>
            <a:off x="7215120" y="492912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9"/>
          <p:cNvSpPr/>
          <p:nvPr/>
        </p:nvSpPr>
        <p:spPr>
          <a:xfrm>
            <a:off x="928800" y="5500800"/>
            <a:ext cx="9284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0"/>
          <p:cNvSpPr/>
          <p:nvPr/>
        </p:nvSpPr>
        <p:spPr>
          <a:xfrm>
            <a:off x="2482920" y="5486400"/>
            <a:ext cx="928440" cy="378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471600" y="2181240"/>
            <a:ext cx="8200800" cy="2495520"/>
          </a:xfrm>
          <a:prstGeom prst="rect">
            <a:avLst/>
          </a:prstGeom>
          <a:ln w="0">
            <a:noFill/>
          </a:ln>
        </p:spPr>
      </p:pic>
      <p:sp>
        <p:nvSpPr>
          <p:cNvPr id="1049" name="矩形 2"/>
          <p:cNvSpPr/>
          <p:nvPr/>
        </p:nvSpPr>
        <p:spPr>
          <a:xfrm>
            <a:off x="1785960" y="2643120"/>
            <a:ext cx="12859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3"/>
          <p:cNvSpPr/>
          <p:nvPr/>
        </p:nvSpPr>
        <p:spPr>
          <a:xfrm>
            <a:off x="4500720" y="2643120"/>
            <a:ext cx="1714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4"/>
          <p:cNvSpPr/>
          <p:nvPr/>
        </p:nvSpPr>
        <p:spPr>
          <a:xfrm>
            <a:off x="3949560" y="4172040"/>
            <a:ext cx="7858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5"/>
          <p:cNvSpPr/>
          <p:nvPr/>
        </p:nvSpPr>
        <p:spPr>
          <a:xfrm>
            <a:off x="5092560" y="4211640"/>
            <a:ext cx="7146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6"/>
          <p:cNvSpPr/>
          <p:nvPr/>
        </p:nvSpPr>
        <p:spPr>
          <a:xfrm>
            <a:off x="6286680" y="4143240"/>
            <a:ext cx="12855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404640" y="690480"/>
            <a:ext cx="8334720" cy="5477040"/>
          </a:xfrm>
          <a:prstGeom prst="rect">
            <a:avLst/>
          </a:prstGeom>
          <a:ln w="0">
            <a:noFill/>
          </a:ln>
        </p:spPr>
      </p:pic>
      <p:sp>
        <p:nvSpPr>
          <p:cNvPr id="1055" name="矩形 2"/>
          <p:cNvSpPr/>
          <p:nvPr/>
        </p:nvSpPr>
        <p:spPr>
          <a:xfrm>
            <a:off x="2914560" y="4592520"/>
            <a:ext cx="1586160" cy="390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3"/>
          <p:cNvSpPr/>
          <p:nvPr/>
        </p:nvSpPr>
        <p:spPr>
          <a:xfrm>
            <a:off x="2386080" y="5165640"/>
            <a:ext cx="1143000" cy="331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4"/>
          <p:cNvSpPr/>
          <p:nvPr/>
        </p:nvSpPr>
        <p:spPr>
          <a:xfrm>
            <a:off x="1108080" y="5678640"/>
            <a:ext cx="1214280" cy="330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5"/>
          <p:cNvSpPr/>
          <p:nvPr/>
        </p:nvSpPr>
        <p:spPr>
          <a:xfrm>
            <a:off x="6500880" y="5643720"/>
            <a:ext cx="164304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428760" y="1166760"/>
            <a:ext cx="8286480" cy="4524480"/>
          </a:xfrm>
          <a:prstGeom prst="rect">
            <a:avLst/>
          </a:prstGeom>
          <a:ln w="0">
            <a:noFill/>
          </a:ln>
        </p:spPr>
      </p:pic>
      <p:sp>
        <p:nvSpPr>
          <p:cNvPr id="1060" name="矩形 2"/>
          <p:cNvSpPr/>
          <p:nvPr/>
        </p:nvSpPr>
        <p:spPr>
          <a:xfrm>
            <a:off x="2978280" y="1203480"/>
            <a:ext cx="1143000" cy="331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3"/>
          <p:cNvSpPr/>
          <p:nvPr/>
        </p:nvSpPr>
        <p:spPr>
          <a:xfrm>
            <a:off x="1143000" y="2214720"/>
            <a:ext cx="1285920" cy="331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4"/>
          <p:cNvSpPr/>
          <p:nvPr/>
        </p:nvSpPr>
        <p:spPr>
          <a:xfrm>
            <a:off x="4071960" y="2714760"/>
            <a:ext cx="743040" cy="331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5"/>
          <p:cNvSpPr/>
          <p:nvPr/>
        </p:nvSpPr>
        <p:spPr>
          <a:xfrm>
            <a:off x="5786280" y="3236760"/>
            <a:ext cx="1143000" cy="331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6"/>
          <p:cNvSpPr/>
          <p:nvPr/>
        </p:nvSpPr>
        <p:spPr>
          <a:xfrm>
            <a:off x="7518240" y="3732120"/>
            <a:ext cx="98280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7"/>
          <p:cNvSpPr/>
          <p:nvPr/>
        </p:nvSpPr>
        <p:spPr>
          <a:xfrm>
            <a:off x="500040" y="4260960"/>
            <a:ext cx="1114560" cy="331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8"/>
          <p:cNvSpPr/>
          <p:nvPr/>
        </p:nvSpPr>
        <p:spPr>
          <a:xfrm>
            <a:off x="1760400" y="4729320"/>
            <a:ext cx="1954440" cy="331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13:1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